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E3E-895B-4357-ACB6-D7A3FDF2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0CC6-45A2-4D06-8779-4E9E19A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512AD-EFFF-4FA8-8140-4B6D9729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ED26F-CFFE-4B81-A498-F557707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6BBAA-34CC-4201-AE37-4A7119A6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1E058-5B81-4BC8-A05E-2E91956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D290-5AB8-4EB3-979D-D13C7E25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F521C-172A-47CB-92D7-5CBC0DFC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150B5-DE8B-4003-B069-9D661060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A4881D-0FF2-4550-9E44-1F3F44F9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0FE7E-B368-424A-A1F4-0D52C0E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3E37-F4F4-40AA-8C34-7F0EB1B9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AD5-4F2F-41CC-9B48-A238E7B6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DE4D-9E62-44FF-8E1D-1DCE9312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B020-FF35-46EB-8168-1048C35A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432A-72F0-4832-878C-3D770330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7C97-6454-49A4-8CCC-289FDD72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4327-89CD-4CB1-BACC-88468F1B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747-3465-4C4D-86DA-CFC57BDE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D39F-A8DC-400D-9F4E-AF909191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9E8-095B-44A6-9959-1825271A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DB9C-A380-42D6-979E-7C11CA38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A8D9-5BFB-4721-8473-2A3D94A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8B56-A12C-4B2C-B4BE-765DC737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39C0-269F-44E5-BC18-79DB9667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C8EC-D7B8-4C72-AF29-BCA465BA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2E0BA-FE75-4D76-B9F4-6460D11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A0912-9C35-4BB5-BD57-49D48225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2828-A82D-44D0-9F96-2E5081C3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A663-0A64-4B74-821F-9A8801C9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AF6E9-B0F8-4D39-BC0F-B08C497B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910-8BE7-41E5-BF7D-946CFC86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2D11-9104-4535-AC94-E900077B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2741-D139-4B48-8107-7C835C4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4E356-B896-4442-845E-88D38344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1AD7A-3803-49F9-A2E3-171F8C73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BBBE-90B0-4795-BB8E-EC2BBC5D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7F70-6AAD-4F15-9758-DBD960FE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5EB9-811B-4C89-A2F3-ED3D763B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47AB-F8BB-42B8-BB71-3093C4C3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4C37-856D-4F0E-BADD-92886325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3E5C0-1212-41A8-BC3F-42636B42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7BC-A957-4294-9307-0A6AC3F9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24ACB-D367-49EC-8BBB-20EA8BAF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AAE9-CA52-4986-BE5C-0DD9BC9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4FAB8-F3EB-49BF-9FBE-B70E4CC5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496D7-25E2-45C0-B754-5C8DF254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5C438-B29F-4047-80F0-9563D5C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9456A-4ADB-406B-A051-ED7FAE7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DB4C3-988F-4139-B236-8923CE69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BC9B7-29AD-4BC3-80FA-6FD9B6987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EFD47-AAFB-423A-A769-808DCDFA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6881-A39B-49D1-B8E6-FC52588A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16D0-9E72-4061-9B1E-7B5BBCB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1DDFE-1542-4E7C-ABE1-5A8BF7E8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795C-0629-4C70-985C-8B31C92B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DEED-1332-4CDF-9D96-C3AE724E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7073-5CD8-40E5-BD8C-0027222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F0DD-6839-4470-B3DF-615123A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D991-0C26-4783-AADB-B5821507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52CAE-2F06-4FB1-B227-31FE8EFD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4FC36-5358-46C3-8778-D4871BA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5D6B-A098-45A7-9464-95FEBC5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59445-E197-4C5F-84AB-3EFC7AAA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B20-768E-48CE-ADF6-BAA0FD15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D156-736D-40FA-83A6-0CCC0065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DCF0-ED2B-4676-8420-464A0752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E0765-5DE8-4030-B5EF-4B05428D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A33D7-8F51-4368-AA1E-21EA3D2D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DDAB3-209D-4D7C-80C8-DB3FF79E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05B88-113E-4B2C-B377-7A17B1E7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A958-2DD0-4FCE-9FAB-3F6D349F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0C68D-1EBC-4E9E-B1CD-9947C92D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9B026-892A-4A7E-BBBE-9B0D418E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4FA15-3D74-4ACB-8330-0B4381B6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F62-4F88-4719-9B18-C4860F01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B87A-EEAB-43BC-9BF9-B182400F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4BC6C-84FC-496B-8F79-0D0A237D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20A14-051E-4BC7-A0BB-C0B70735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38197-05A0-46B5-B989-9AFB2C3F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3E5B-5264-4EAC-A25B-AA62CBF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3A84D-08B0-4CF4-AFFA-46180329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CCDA6-A8C8-409F-872D-60E4EAF7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0DF66-FCF6-4697-AD93-B66150AB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50A77-B608-4017-90BA-46104F6C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C085F-F03C-4BA8-8599-BE293921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EA4-CF9A-46C4-A5CA-4AE4AF4D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C58F-727C-4350-8A65-0321EA9B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E23A4-B95A-4467-8761-2596795D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74DD-88FD-4C61-9EA8-B51BE0D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CAD24-715C-4FEB-95CB-F6211429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BACCF-FF58-4BB6-A289-2B7E3788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AB5FA-19B2-41D3-BD6E-13A7BE75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0A157-F70E-4B6F-92F7-9101B6D0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F0EC9-09FC-49B2-8C2C-B51D640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3099-234F-4CFC-8CD1-CEB537EE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83D8D-4C19-48A5-BD72-9FEF2DAF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647-8826-438F-9878-FB03F27A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71B77-C7B5-4E1A-9CF0-7D135836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D7E42-25FA-402A-848A-A5724866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4E2B-E71A-4B64-9253-4BB0E8B4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741E4-9ADD-4DBE-8EB0-809B7EFA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15126-E5F8-4D74-BD4D-AADCEFDB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3C74D-415A-4CD7-ADD1-EBB58030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C24CF-8B96-4931-BD99-9182F620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2CE9E-3A3F-4841-89C3-C7E4DC7A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7D71E-4D20-4C27-BE50-B5CC92E6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77173-D3FA-4B07-97CA-CFC2C383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CC1-0AAC-445D-A720-DA0A8A90E21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4DC7-62B2-4966-B032-E2C62248A0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6089-17B3-44A7-B601-489626F2226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5D99-2BD3-4213-A93A-30EA25F6036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442C-A0EE-4A6F-8342-EBAD8876ED6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1CDD-0041-4C62-B901-27EE01A1F80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7E07-93B5-4D99-A4F9-945AE99727F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4B3-3E1B-4915-AA58-F4021144172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6CA-9148-43C0-9B91-F76C924C9DB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1066680" y="6245280"/>
            <a:ext cx="670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A3D2-C1A1-41C9-B12E-B93188BA07B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10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QUALITY AND INTEG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QUALITY AUDI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tatistically profile all data fil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ocument the set of values for all field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nalyze data patterns (distribution, outliers, frequencies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Verify whether controls and business rules are enforced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se specialized data profiling tool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C87F-9812-4087-A511-93DFBC776EB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STEWARDSHIP PROGRAM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ol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ight of data stewardship progr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age data subject are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data defini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production of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use of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port to: business unit vs. IT organization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D9A9-1263-421E-8BA6-C9BD8CF69C3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MPROVING DATA CAPTURE PROCESS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Automate data entry as much as possibl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Manual data entry should be selected from preset option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Use trained operators when possibl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Follow good user interface design principle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Immediate data validation for entered data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83AF-0766-480A-B3F3-5060F344F74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PPLY MODERN DATA MANAGEMENT PRINCIPLES AND TECHNOLOG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0492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ftware tools for analyzing and correcting data quality problem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ttern match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uzzy log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pert syste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und data modeling and database desig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4224-3613-40CE-A424-F64DAC9C1CF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QM PRINCIPLES AND PRACTIC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TQM – Total Quality Management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TQM Principles: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ect preven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tinuous improvemen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se of enterprise data standard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trong foundation of measuremen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Balanced focu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ustomer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duct/Servi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A53D-1A5B-4E31-97A0-59687623B7C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ASTER DATA MANAGEMENT (MDM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isciplines, technologies, and methods to ensure the currency, meaning, and quality of reference data within and across various subject areas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Three main architectures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dentity registry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master data remains in source systems; registry provides applications with lo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ntegration hub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data changes broadcast through central service to subscribing databa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ersistent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central “golden record” maintained; all applications have access. Requires applications to push data. Prone to data duplicati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26F-0109-4988-A71C-FBFBCCB337E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INTEGRATIO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integration creates a unified view of business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ther possibiliti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pplication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usiness process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 interaction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y approach requir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hanged data captu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(CDC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dicates which data have changed since previous data integration activ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B5A1-D51C-4F49-9138-532647141FA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ECHNIQUES FOR DATA INTEGRATIO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solidation (ETL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onsolidating all data into a centralized database (like a data warehouse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federation (EII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Provides a virtual view of data without actually creating one centralized databas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propagation (EAI and ERD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plicate data across databases, with near real-time dela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A9FD-070F-4A61-B879-CE17EDF2289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3E36-B4F7-4D79-B66C-988B8A7694C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5" descr="Noname.gif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46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8D59-F662-42C7-8B09-DC102427004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RECONCILED DATA LAYER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Typical operational data is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ient–not historic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t normalized (perhaps due to denormalization for performanc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ricted in scope–not comprehensiv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times poor quality–inconsistencies and erro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B0AE-9946-43B7-8793-FE1B6020E79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goals of data governanc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measures of data qua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characteristics of quality data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reasons for poor data quality in organization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a program for improving data qua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three types of data integration approach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the purpose and role of master data management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four steps and activities of ETL for data integration for a data warehous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Explain various forms of data transformation for data warehous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E9EF-144E-4079-9109-56680FDE0AF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RECONCILED DATA LAYER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After ETL, data should be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tailed–not summarized y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istorical–period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rmalized–3</a:t>
            </a:r>
            <a:r>
              <a:rPr b="0" lang="en-US" sz="3200" spc="-1" strike="noStrike" baseline="30000">
                <a:solidFill>
                  <a:srgbClr val="4e3b30"/>
                </a:solidFill>
                <a:latin typeface="Franklin Gothic Book"/>
              </a:rPr>
              <a:t>r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normal form or hig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rehensive–enterprise-wide perspectiv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imely–data should be current enough to assist decision-mak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Quality controlled–accurate with full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A112-3954-42A4-85C0-7544FD56C77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ETL PROCES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09480" y="1219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pture/Extra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crub or data cleansing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ransfor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oad and Index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9E09-1740-465C-9123-0803B0D62E3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1013760" y="407844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ETL = Extract, transform, and lo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ring initial load of Enterprise Data Warehouse (EDW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ring subsequent periodic updates to ED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D075-58B5-4E7D-A932-5889EEEEACB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828800" y="2209680"/>
            <a:ext cx="1295280" cy="3812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" y="49528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tatic extract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= capturing a snapshot of the source data at a point i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4876920" y="4876920"/>
            <a:ext cx="39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Incremental extract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= capturing changes that have occurred since the last static ex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905120" y="152280"/>
            <a:ext cx="61722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Capture/Extract…obtaining a snapshot of a chosen subset of the source data for loading into the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0" y="8380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8B91-35AB-4EB4-8F66-19660E1C96F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8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3109-FD19-4AF0-9BB7-FB70F89614F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124080" y="1447920"/>
            <a:ext cx="1219320" cy="30456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828800" y="228600"/>
            <a:ext cx="5943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crub/Cleanse…uses pattern recognition and AI techniques to upgrade data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4800600"/>
            <a:ext cx="4419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Fixing errors: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900" spc="-1" strike="noStrike">
                <a:solidFill>
                  <a:srgbClr val="990000"/>
                </a:solidFill>
                <a:latin typeface="Tahoma"/>
                <a:ea typeface="Tahoma"/>
              </a:rPr>
              <a:t>misspellings, erroneous dates, incorrect field usage, mismatched addresses, missing data, duplicate data, inconsistenci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4724280" y="4800600"/>
            <a:ext cx="4419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Also: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900" spc="-1" strike="noStrike">
                <a:solidFill>
                  <a:srgbClr val="990000"/>
                </a:solidFill>
                <a:latin typeface="Tahoma"/>
                <a:ea typeface="Tahoma"/>
              </a:rPr>
              <a:t>decoding, reformatting, time stamping, conversion, key generation, merging, error detection/logging, locating missing dat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CDF8-2C3A-44A2-91F5-5A982204D56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9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F50-8176-4FD0-8351-3CD0CCEB06F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029200" y="1447920"/>
            <a:ext cx="990720" cy="30456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636560" y="152280"/>
            <a:ext cx="57549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Transform … convert data from format of operational system to format of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17520" y="4800600"/>
            <a:ext cx="4194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Record-level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election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Joining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comb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Aggregation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summ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4419720" y="4876920"/>
            <a:ext cx="4724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Field-level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ingle-field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from one field to on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multi-field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from many fields to one, or one field to 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DB14-2D96-41C4-A0F4-338B179111A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0E80-8C6D-4DF7-BDEB-17EFABB2725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6324480" y="2057400"/>
            <a:ext cx="685800" cy="6858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2590920" y="228600"/>
            <a:ext cx="4114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Load/Index…place transformed data into the warehouse and create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457200" y="5181480"/>
            <a:ext cx="405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Refresh mode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bulk rewriting of target data at periodic interv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4724280" y="5181480"/>
            <a:ext cx="4054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Update mode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only changes in source data are written to data ware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2D7B-EE31-4637-8015-559F56BC07B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04920" y="1874520"/>
            <a:ext cx="86868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elec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partitioning data according to predefined criter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Joining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combining data from various sources into a single table or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Normaliza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decomposing relations with anomalies to produce smaller, well-structured rel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ggrega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transforming data from detailed to summary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Slide Number Placeholder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E364-0EC7-45B9-A474-EB97DAF90A8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CORD LEVEL TRANSFORMATION FUNC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9981-8AFA-4DFC-99A1-6DE1E7898D8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826280" y="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85800" y="4952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In general, some transformation function translates data from old form to new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Picture 7" descr="Noname.gif"/>
          <p:cNvPicPr/>
          <p:nvPr/>
        </p:nvPicPr>
        <p:blipFill>
          <a:blip r:embed="rId2"/>
          <a:stretch/>
        </p:blipFill>
        <p:spPr>
          <a:xfrm>
            <a:off x="914400" y="1600200"/>
            <a:ext cx="7068960" cy="28954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8"/>
          <p:cNvSpPr/>
          <p:nvPr/>
        </p:nvSpPr>
        <p:spPr>
          <a:xfrm>
            <a:off x="2831040" y="60948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Basic Re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DD79-6033-457F-8DB0-D26164AE29A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329480" y="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1430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Algorithmic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 transformation uses a formula or logical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2849760" y="6094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Algorith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8" descr="Noname.gif"/>
          <p:cNvPicPr/>
          <p:nvPr/>
        </p:nvPicPr>
        <p:blipFill>
          <a:blip r:embed="rId2"/>
          <a:stretch/>
        </p:blipFill>
        <p:spPr>
          <a:xfrm>
            <a:off x="762120" y="1523880"/>
            <a:ext cx="751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BD3B-5284-4AB0-B66D-B11FB933B73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351080" y="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8380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able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lookup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uses a separate table keyed by source recor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854800" y="6094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Table look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Picture 8" descr="Noname.gif"/>
          <p:cNvPicPr/>
          <p:nvPr/>
        </p:nvPicPr>
        <p:blipFill>
          <a:blip r:embed="rId2"/>
          <a:stretch/>
        </p:blipFill>
        <p:spPr>
          <a:xfrm>
            <a:off x="685800" y="1371600"/>
            <a:ext cx="73915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GOVERNANC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governanc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igh-level organizational groups and processes overseeing data stewardship across the organ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stewar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person responsible for ensuring that organizational applications properly support the organization’s data quality go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9610-CC34-4B59-9C13-992FCCEB313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DBFB-FBA9-4F88-BF74-3C5A9366C76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165760" y="15228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3 Multi-field trans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6" descr="Noname.gif"/>
          <p:cNvPicPr/>
          <p:nvPr/>
        </p:nvPicPr>
        <p:blipFill>
          <a:blip r:embed="rId2"/>
          <a:stretch/>
        </p:blipFill>
        <p:spPr>
          <a:xfrm>
            <a:off x="762120" y="1371600"/>
            <a:ext cx="7559640" cy="40384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7"/>
          <p:cNvSpPr/>
          <p:nvPr/>
        </p:nvSpPr>
        <p:spPr>
          <a:xfrm>
            <a:off x="2819160" y="60948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Many sources to on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DAF-6FC4-4EA7-90AA-BEA54019733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1690560" y="1522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3 Multi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9" name="Picture 6" descr="Noname.gif"/>
          <p:cNvPicPr/>
          <p:nvPr/>
        </p:nvPicPr>
        <p:blipFill>
          <a:blip r:embed="rId2"/>
          <a:stretch/>
        </p:blipFill>
        <p:spPr>
          <a:xfrm>
            <a:off x="561960" y="1295280"/>
            <a:ext cx="7972560" cy="42674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7"/>
          <p:cNvSpPr/>
          <p:nvPr/>
        </p:nvSpPr>
        <p:spPr>
          <a:xfrm>
            <a:off x="2818800" y="609480"/>
            <a:ext cx="38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One source to many targ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9EED-29E5-42FE-A245-72C0B14B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3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QUIREMENTS FOR DATA GOVERNANC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ponsorship from both senior management and business uni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data steward manager to support, train, and coordinate data steward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stewards for different business units, subjects, and/or source system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governance committee to provide data management guidelines and standards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F26E-BE30-4A7F-8F5A-1C3F469686C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MPORTANCE OF DATA QUA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If the data are bad, the business fails. Period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IGO – garbage in, garbage o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rbanes-Oxley (SOX) compliance by law sets data and metadata quality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urposes of data qualit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nimize IT project ris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ke timely business deci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sure regulatory compli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pand customer b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FDE-1FE5-4C66-AD8A-ABFBC6D29C5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Unique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Accura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nsisten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mplete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imeli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urren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nformanc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Referential integrit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9EFA-055E-458C-961A-F38D252FE41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ARACTERISTICS OF QUALITY DATA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2D39-2522-40C4-93C7-4541A27F44E2}" type="slidenum">
              <a:rPr b="0" lang="en-US" sz="11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AUSES OF POOR DATA QUA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ternal data sourc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ack of control over data qualit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ndant data storage and inconsistent metadat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liferation of databases with uncontrolled redundancy and metadat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ent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oor data capture control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ack of organizational commit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Not recognizing poor data quality as an organizational issu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5E7-7E60-4AD9-AB61-FD65273A5E3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TEPS IN DATA QUALITY IMPROV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Get business buy-i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erform data quality audi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stablish data stewardship progra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mprove data capture process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y modern data management principles and  technolog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y total quality management (TQM) practic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B2A-2DBC-4C57-80B4-99FAED88804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BUSINESS BUY-I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ecutive sponsorship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Building a business ca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rove a return on investment (ROI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voidance of co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voidance of opportunity los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D9C-F7F0-4950-B604-C8EDB4B49A8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41Z</dcterms:modified>
  <cp:revision>576</cp:revision>
  <dc:subject/>
  <dc:title> Data and Database Administration</dc:title>
</cp:coreProperties>
</file>